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-15840" y="-50760"/>
            <a:ext cx="9177480" cy="6897600"/>
          </a:xfrm>
          <a:prstGeom prst="rect">
            <a:avLst/>
          </a:prstGeom>
          <a:ln w="0">
            <a:noFill/>
          </a:ln>
        </p:spPr>
      </p:pic>
      <p:sp>
        <p:nvSpPr>
          <p:cNvPr id="40" name="直线连接符 21"/>
          <p:cNvSpPr/>
          <p:nvPr/>
        </p:nvSpPr>
        <p:spPr>
          <a:xfrm>
            <a:off x="2927520" y="3735360"/>
            <a:ext cx="5329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矩形 4" descr=""/>
          <p:cNvPicPr/>
          <p:nvPr/>
        </p:nvPicPr>
        <p:blipFill>
          <a:blip r:embed="rId2"/>
          <a:stretch/>
        </p:blipFill>
        <p:spPr>
          <a:xfrm>
            <a:off x="2927520" y="2165400"/>
            <a:ext cx="5330520" cy="29606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3"/>
          <p:cNvSpPr/>
          <p:nvPr/>
        </p:nvSpPr>
        <p:spPr>
          <a:xfrm>
            <a:off x="468360" y="13287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476280" y="1897200"/>
            <a:ext cx="8040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1308240" y="1927080"/>
            <a:ext cx="6914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414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708120" y="1547640"/>
            <a:ext cx="7742160" cy="45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06[1]"/>
          <p:cNvPicPr/>
          <p:nvPr/>
        </p:nvPicPr>
        <p:blipFill>
          <a:blip r:embed="rId1"/>
          <a:stretch/>
        </p:blipFill>
        <p:spPr>
          <a:xfrm>
            <a:off x="4680" y="0"/>
            <a:ext cx="9158400" cy="6873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629080" y="2033640"/>
            <a:ext cx="39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ià  q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dā  jī  m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 积 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2" descr="CI{1_Z%$EQ[]9DIQUUJCB0A"/>
          <p:cNvPicPr/>
          <p:nvPr/>
        </p:nvPicPr>
        <p:blipFill>
          <a:blip r:embed="rId2"/>
          <a:stretch/>
        </p:blipFill>
        <p:spPr>
          <a:xfrm>
            <a:off x="6232680" y="1527120"/>
            <a:ext cx="230472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O4NNXN}Y7]0EF_@ZPCACA_5"/>
          <p:cNvPicPr/>
          <p:nvPr/>
        </p:nvPicPr>
        <p:blipFill>
          <a:blip r:embed="rId3"/>
          <a:stretch/>
        </p:blipFill>
        <p:spPr>
          <a:xfrm>
            <a:off x="806400" y="4513320"/>
            <a:ext cx="2209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2"/>
          <p:cNvSpPr/>
          <p:nvPr/>
        </p:nvSpPr>
        <p:spPr>
          <a:xfrm>
            <a:off x="3279600" y="1125360"/>
            <a:ext cx="302436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-15840" y="-20520"/>
            <a:ext cx="9169200" cy="6852960"/>
          </a:xfrm>
          <a:prstGeom prst="rect">
            <a:avLst/>
          </a:prstGeom>
          <a:ln w="0">
            <a:noFill/>
          </a:ln>
        </p:spPr>
      </p:pic>
      <p:sp>
        <p:nvSpPr>
          <p:cNvPr id="111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1" descr="BF0%X`M5`]0DF}S[5F([F3H"/>
          <p:cNvPicPr/>
          <p:nvPr/>
        </p:nvPicPr>
        <p:blipFill>
          <a:blip r:embed="rId2"/>
          <a:srcRect l="3924" t="2112" r="-3919" b="-2103"/>
          <a:stretch/>
        </p:blipFill>
        <p:spPr>
          <a:xfrm>
            <a:off x="1012680" y="2003400"/>
            <a:ext cx="65404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-19080" y="7920"/>
            <a:ext cx="9182160" cy="6842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7920" y="33480"/>
            <a:ext cx="9128160" cy="6789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512040" y="1197000"/>
            <a:ext cx="1152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26036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一只小鸡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" descr="P`@}Z0VW$784)%{D6LCJ@JM"/>
          <p:cNvPicPr/>
          <p:nvPr/>
        </p:nvPicPr>
        <p:blipFill>
          <a:blip r:embed="rId2"/>
          <a:stretch/>
        </p:blipFill>
        <p:spPr>
          <a:xfrm>
            <a:off x="1052640" y="3022560"/>
            <a:ext cx="31827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22320" y="31680"/>
            <a:ext cx="9128160" cy="6789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35440" y="3233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先写竖左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再写小圆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262400" y="24494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竖弯加点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22320" y="31680"/>
            <a:ext cx="9128160" cy="6789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332000" y="919080"/>
            <a:ext cx="20890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5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362480" y="12715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气球拖线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1" descr="EX1L%8SLZ`9[OT4KQNJGAD9"/>
          <p:cNvPicPr/>
          <p:nvPr/>
        </p:nvPicPr>
        <p:blipFill>
          <a:blip r:embed="rId2"/>
          <a:stretch/>
        </p:blipFill>
        <p:spPr>
          <a:xfrm>
            <a:off x="4362480" y="2057400"/>
            <a:ext cx="30672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30240" y="-22320"/>
            <a:ext cx="9082080" cy="6831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95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左上半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a11c41185d339a3277fb588"/>
          <p:cNvPicPr/>
          <p:nvPr/>
        </p:nvPicPr>
        <p:blipFill>
          <a:blip r:embed="rId1"/>
          <a:stretch/>
        </p:blipFill>
        <p:spPr>
          <a:xfrm>
            <a:off x="-12600" y="-46080"/>
            <a:ext cx="9142200" cy="683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344600" y="25560"/>
            <a:ext cx="1447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5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297320" y="1943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刀切西瓜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4" descr=""/>
          <p:cNvPicPr/>
          <p:nvPr/>
        </p:nvPicPr>
        <p:blipFill>
          <a:blip r:embed="rId1"/>
          <a:stretch/>
        </p:blipFill>
        <p:spPr>
          <a:xfrm>
            <a:off x="-38160" y="25560"/>
            <a:ext cx="9148680" cy="683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3817800" y="1568520"/>
            <a:ext cx="165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276720" y="4354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先右斜再左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24360" y="2106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像个叉叉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同侧圆角矩形 3"/>
          <p:cNvSpPr/>
          <p:nvPr/>
        </p:nvSpPr>
        <p:spPr>
          <a:xfrm>
            <a:off x="3984480" y="86184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3984480" y="1504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}M655J9AJILB_)M7EDS(B9C"/>
          <p:cNvPicPr/>
          <p:nvPr/>
        </p:nvPicPr>
        <p:blipFill>
          <a:blip r:embed="rId1"/>
          <a:stretch/>
        </p:blipFill>
        <p:spPr>
          <a:xfrm>
            <a:off x="1201680" y="1844640"/>
            <a:ext cx="7292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992160" y="1935000"/>
            <a:ext cx="72946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21:00Z</dcterms:created>
  <dc:creator/>
  <dc:description/>
  <cp:keywords/>
  <dc:language>en-US</dc:language>
  <cp:lastModifiedBy>User</cp:lastModifiedBy>
  <dcterms:modified xsi:type="dcterms:W3CDTF">2016-10-15T12:41:37Z</dcterms:modified>
  <cp:revision>6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